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049B-23CC-4C85-8599-EE2D1AAE4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0798-E364-4197-9E75-8AF545CB4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D607-1B71-40FB-B78B-8AAF4FE87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8923-F09C-4984-AA30-3BD1B7B8D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06B6-4A1B-491A-A803-8CDC39B45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A091-B65C-4F77-8B64-1553D16E0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753C-AC42-4C41-88E7-3E6D301DA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9BF8-C8A1-45A2-A566-375C86551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8D50-13B9-43FF-883D-A8CDDF28C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D161-486E-47F0-96D6-5B402475A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35DD-4198-4536-9FA2-40EB403E3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DAD6-098F-49FC-A9B1-AFD16B297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181996-54BA-4265-B58D-B26C319B215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24T09:10:12Z</dcterms:modified>
  <cp:revision>85</cp:revision>
  <dc:subject/>
  <dc:title>No Slide Title</dc:title>
</cp:coreProperties>
</file>